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1214-1AD8-478F-B886-446FFDBD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2BA3-1EDE-4778-AC95-303F45ED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C694-BED7-499E-A27B-05DF1F2D7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DE61-086F-427F-92B9-2B902D16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B44-2BD5-41A7-B72F-847D6ABF6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FF6A-0C6F-4B89-A592-A93E79D4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A60-5B1D-4EF7-BA7A-C06E1AF4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A262-BAB4-4DB9-A1FE-4F863AF6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5705-16FD-407F-ABF9-E4052A6F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562D-B41F-45CB-8C1D-604FEA6B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7778-508C-4CD1-A75D-53652AB7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088E-16E8-434F-8D7C-C4126CBF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6E07-1CA3-48D2-B012-8F307754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B05F-AF12-476D-8A44-367CA5FB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9F6-7BEF-423E-A5EC-3F67279F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735E-8F57-4E25-8EFB-EE7C0067B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D9F-BA3B-453B-B5E6-19614FBB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AF36-32FC-450A-A8FA-082A4DFE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FAC1-9151-4D65-9737-1B20525A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0" r="88599" b="0"/>
          <a:stretch/>
        </p:blipFill>
        <p:spPr>
          <a:xfrm>
            <a:off x="0" y="0"/>
            <a:ext cx="1303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"/>
          <p:cNvSpPr/>
          <p:nvPr/>
        </p:nvSpPr>
        <p:spPr>
          <a:xfrm rot="16200000">
            <a:off x="-2051280" y="358452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works for New Media Literacy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1"/>
          <p:cNvSpPr/>
          <p:nvPr/>
        </p:nvSpPr>
        <p:spPr>
          <a:xfrm rot="16200000">
            <a:off x="-2400120" y="3310200"/>
            <a:ext cx="62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aret Weigel, bambini media || OLPC Workshop || April 5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636160" y="4800600"/>
            <a:ext cx="180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 in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4th and 5th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bridge,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rcRect l="0" t="0" r="67504" b="90726"/>
          <a:stretch/>
        </p:blipFill>
        <p:spPr>
          <a:xfrm>
            <a:off x="3200400" y="4724280"/>
            <a:ext cx="2311560" cy="85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981080" y="1143000"/>
            <a:ext cx="64771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s for New Medi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teracy Assessm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 Weigel, bambini med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@bambini-me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533520"/>
            <a:ext cx="259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4340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meaningfully sample and remix media content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42670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creates a collage out of photos of the Civil War found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finds some random images and slaps them together in no particul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819520" y="495288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student found meaning in the cont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meaning new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apparent to an external 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explain the choices m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676520" y="533520"/>
            <a:ext cx="251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34340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scan one’s environment and shift focus onto salient details on an ad hoc basi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2670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works on a ‘breaking news’ blog, updating content as it is sent a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gets distracted by text messages and email, and does not return to the work at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2819520" y="50896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focus on appropriate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pick up where s/he left of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ignore stimuli as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676520" y="533520"/>
            <a:ext cx="396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715000" y="73332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interact meaningfully with tools that expand our cognition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556272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teams play a roleplaying game using handheld devices, which allow them to share information with other team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n’t share information, can’t or won’t operate the devices, and show no interest in solving the puzz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819520" y="495288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operate the dev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use it appropriat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understand/synthesize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/he engaged in solving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676520" y="533520"/>
            <a:ext cx="396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v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715000" y="73332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pool knowledge and compare notes with others towards a common goal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56386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compile a list of local government resources, publish it in a wiki, and initiate dialogues with community resi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n’t share information with the broader community, or find it independently, that further the common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819520" y="502920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interact with individuals and groups outside of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identify existing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tudent engaged in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676520" y="533520"/>
            <a:ext cx="198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886200" y="733320"/>
            <a:ext cx="464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evaluate the reliability and credibility of different information source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6576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searches and finds several different cropped versions of a single news photo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ncritically accepts the validity of images and content found online, and forwards found content along to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819520" y="495288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look for markers of cred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seek out different perspec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look for the source of online content, and the perspective(s) of the author(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676520" y="533520"/>
            <a:ext cx="4114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edia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019920" y="733320"/>
            <a:ext cx="2514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deal with the flow of stories and information across multiple modalitie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8672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ses a variety of platforms (instant message, PowerPoint, video camera) to create and share a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19520" y="3581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ses a single modality to create a story, which is not shared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819520" y="502920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find and create content in various forms? Can s/he conduct a search across multiple modalities? Can s/he follow a narrative across different platfo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676520" y="533520"/>
            <a:ext cx="220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038480" y="73332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search for, synthesize and disseminate information in a social network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38862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819520" y="19652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tage a citywide protest about a pending bill in the State House via My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2819520" y="3581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re upset about a pending bill in the State House, but can’t coordinate a pro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2819520" y="502920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student network with pe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contact adults and professionals via online t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676520" y="533520"/>
            <a:ext cx="220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038480" y="733320"/>
            <a:ext cx="449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travel across diverse communities, discerning and respecting multiple perspectives, and following alternative sets of norm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38862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successfully participates in a national online forum with a wide range of participants and opi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does not participate, and/or is unable to respectfully listen to different perspectives and opi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819520" y="5029200"/>
            <a:ext cx="5638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student respect alternate opin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e express himself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he argue her cas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e change his mind when appropri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 | LEARNING CONTEXT | LEARNING CONT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challe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752480" y="1739880"/>
            <a:ext cx="71629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andardize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ynthesizing assessment into existing subjec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hared standards across districts/states/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mbine assessment with taxonomy of skill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Bloom’s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295280" y="485640"/>
            <a:ext cx="2819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2489040" cy="107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OLPCpz"/>
          <p:cNvPicPr/>
          <p:nvPr/>
        </p:nvPicPr>
        <p:blipFill>
          <a:blip r:embed="rId2"/>
          <a:srcRect l="0" t="19426" r="75255" b="69925"/>
          <a:stretch/>
        </p:blipFill>
        <p:spPr>
          <a:xfrm>
            <a:off x="2514600" y="3200400"/>
            <a:ext cx="2895480" cy="768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7"/>
          <p:cNvSpPr/>
          <p:nvPr/>
        </p:nvSpPr>
        <p:spPr>
          <a:xfrm>
            <a:off x="2527200" y="24382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ambini-med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27920" y="393048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z.harvard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1" descr="OLPCnml"/>
          <p:cNvPicPr/>
          <p:nvPr/>
        </p:nvPicPr>
        <p:blipFill>
          <a:blip r:embed="rId3"/>
          <a:srcRect l="2084" t="13620" r="4167" b="11494"/>
          <a:stretch/>
        </p:blipFill>
        <p:spPr>
          <a:xfrm>
            <a:off x="2590920" y="4800600"/>
            <a:ext cx="2971800" cy="727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2517840" y="55306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jectnml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76520" y="533520"/>
            <a:ext cx="6324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New Media Literac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OLPCnml"/>
          <p:cNvPicPr/>
          <p:nvPr/>
        </p:nvPicPr>
        <p:blipFill>
          <a:blip r:embed="rId1"/>
          <a:srcRect l="2084" t="13620" r="4167" b="11494"/>
          <a:stretch/>
        </p:blipFill>
        <p:spPr>
          <a:xfrm>
            <a:off x="1752480" y="1371600"/>
            <a:ext cx="2971800" cy="72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679760" y="21016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jectnml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2480" y="2819520"/>
            <a:ext cx="6858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one of the first three projects funded by the MacArthur Foundations $50M Digital Media and Learning Initiative (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 One: </a:t>
            </a:r>
            <a:br>
              <a:rPr sz="2400"/>
            </a:br>
            <a:r>
              <a:rPr b="0" lang="en-US" sz="2400" spc="-1" strike="noStrike">
                <a:solidFill>
                  <a:srgbClr val="cd0900"/>
                </a:solidFill>
                <a:latin typeface="Arial"/>
              </a:rPr>
              <a:t>Framework for new media literac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s of potent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ronting the Challenges of Participatory Culture: Media Education for the 21st Centu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LEARNING CONTEXT |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constitutes a participatory 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52480" y="173988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Low barriers to participation (i.e.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rong support for creating and sharing work with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Informal mentorship where experience and knowledge is passed down to no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nse of meaning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ome degree of social connection with others (individuals, a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LEARNING CONTEXT |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fundamental challe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52480" y="1739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What to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ow to teac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828800" y="30481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752480" y="3352680"/>
            <a:ext cx="685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Transparency Proble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ng students to identity how media shapes information via present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Ethics Challeng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ng students to behave as a responsible participant and community membe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kills can be cultiv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0" y="1371600"/>
            <a:ext cx="36576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e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ransmedi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743200" y="733320"/>
            <a:ext cx="5943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capacity to experiment with one’s surroundings as a form of problem-solving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6668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re given ‘free time’ online to explore what interests th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use time online to chat with friends, skim the web, or browse inappropriat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819520" y="508968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 identifiable academic payof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sustained/deeper explo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captivate the student’s atten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76520" y="533520"/>
            <a:ext cx="236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038480" y="7333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interpret and construct dynamic models of real world processe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8098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grow a functional society from the ground up by playing “SimCi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 not bother to discover what facilitates (or even breaks) the SimCity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2819520" y="508968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understand processes be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deliberately alter outcomes by manipulating variab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676520" y="533520"/>
            <a:ext cx="236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adopt alternative identities for the purposes of improvisation and discovery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41148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819520" y="204156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adopts a professional role (I.e. architect) in a sustained fashion (epistemic ga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either chooses a role s/he is not interested in, and/or cannot sustain the 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819520" y="487692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demonstrate an understanding of this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engage with others while performing this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6:20:08Z</dcterms:created>
  <dc:creator>Office 2004 Test Drive User</dc:creator>
  <dc:description/>
  <dc:language>en-US</dc:language>
  <cp:lastModifiedBy>Melissa Henriquez</cp:lastModifiedBy>
  <cp:lastPrinted>2011-04-04T20:57:42Z</cp:lastPrinted>
  <dcterms:modified xsi:type="dcterms:W3CDTF">2011-04-11T13:08:12Z</dcterms:modified>
  <cp:revision>101</cp:revision>
  <dc:subject/>
  <dc:title>PowerPoint Presentation</dc:title>
</cp:coreProperties>
</file>